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612-DAB5-40D4-A133-26AB2EC7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DE4-A33D-4430-AEC5-C432A390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05D-F0EC-474D-88D2-C3A9A893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27E-C2E2-4ABB-A4FD-BF715354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4C4-C02A-4DC5-9DDE-272DD6FA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768-74EE-492F-B485-03E916D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B8B-FEFC-4E33-9784-B6648A2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1FA-A745-4B1E-870D-1E63A5E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697-CA55-426B-A936-2D284A80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D9E-B21B-4F01-9620-50CE95F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50C-B19C-41CF-881C-66623AD5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AAF-32CC-47BC-B02B-C7EC769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01A8-F0E2-4F84-AF09-AC1E6DC48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与祖国共奋进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为队旗添光彩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4941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0918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5877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教师：杨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主持人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933720"/>
            <a:ext cx="7543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谈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 action="ppaction://hlinksldjump"/>
              </a:rPr>
              <a:t>神舟七号发射成功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标志着我国已经初步具有进行太空防卫战的能力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神舟七号发射成功对于增强国民凝聚力和自豪感有重要的意义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“神五”、“神六”带来的产业价值已经超过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8604360" y="6669000"/>
            <a:ext cx="215640" cy="189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三环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Arial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7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7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7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0" i="1" lang="zh-CN" sz="4000" spc="-1" strike="noStrike" u="sng">
                <a:solidFill>
                  <a:srgbClr val="6600cc"/>
                </a:solidFill>
                <a:uFillTx/>
                <a:latin typeface="Arial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——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3645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请同学们朗诵下列关于爱国的诗歌</a:t>
            </a: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348000" y="1413000"/>
            <a:ext cx="54007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333360"/>
            <a:ext cx="391464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舒婷） </a:t>
            </a:r>
            <a:br>
              <a:rPr sz="2800"/>
            </a:br>
            <a:br>
              <a:rPr sz="2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勒进你的肩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千百年来未落到地面的花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12536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正在喷薄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的富饶，你的荣光，你的自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—— 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亲爱的祖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一环节：唱国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二环节：神舟七号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三环节：国庆中畅谈爱国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四环节：深情朗诵爱国诗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五环节：爱国典范的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六环节：中学生要如何爱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第七环节：知识竞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结束班会唱队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804960"/>
            <a:ext cx="8497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800"/>
            </a:b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8480" y="501480"/>
            <a:ext cx="2819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884600" cy="2637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2505240"/>
            <a:ext cx="3953160" cy="435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415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133880" y="1428840"/>
            <a:ext cx="5010120" cy="542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124000" y="44280"/>
            <a:ext cx="1859040" cy="247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Arial"/>
                <a:ea typeface="华文新魏"/>
              </a:rPr>
              <a:t>下面请同学们欣赏董存瑞舍身炸堡碉的电影片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332000" y="692280"/>
            <a:ext cx="6912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中学生如何弘扬爱国精神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?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Arial"/>
                <a:ea typeface="华文新魏"/>
              </a:rPr>
              <a:t>下面请几位同学为我们展示自己的精彩才艺—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爱我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609300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60930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16720" y="616572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24720" y="614988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爱我中华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宋祖英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    专辑：大地飞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630864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4720" y="6294600"/>
            <a:ext cx="13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下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30872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716360" y="11253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第一环节：唱国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5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397080"/>
            <a:ext cx="69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日，中华人民共和国中央人民政府成立。代表着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个民族的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门礼炮齐鸣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响，它标志着中国共产党领导中国人民英勇奋斗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，终于取得了中国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(      )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的最后胜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51480" y="1267560"/>
            <a:ext cx="33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抗日战争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抗美援朝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民主主义革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2652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953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日，我国第一个五年计划开始实施。这个计划的基本任务是建立（      ）的初步基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．社会主义现代农业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社会主义四个现代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社会主义工业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0" y="836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213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31982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（     ），中共十四届三中全会通过的《中共中央关于建立社会主义市场经济体制若干问题的决定》，对我国的改革开放和社会主义现代化建设产生深远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149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（    ），我国加入世界贸易组织，成为其第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43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个成员，标志着对外开放进入了一个新的阶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13360"/>
            <a:ext cx="604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我国综合实力和国际竞争力大幅提升，（    ）年进出口总额已位居世界第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2 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4 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47480" y="4876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04000" y="4365720"/>
            <a:ext cx="1828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第七环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8360" y="469800"/>
            <a:ext cx="72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胡锦涛说，科学发展观，第一要义是（   ），核心是以人为本，基本要求是全面协调可持续，根本方法是统筹兼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全面协调可持续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人为本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发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33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47816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澳门特别行政区的区旗是绘有五星、莲花、大桥、海水图案的绿色旗帜，其中绿色代表（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和平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祖国大地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经济繁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162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680200"/>
            <a:ext cx="705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党的十六大把“三个代表”重要思想同马克思列宁主义、毛泽东思想、邓小平理论一道确立为党必须长期坚持的指导思想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实现了我们党在指导思想上的又一次（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与时俱进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历史发展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丰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789000"/>
            <a:ext cx="77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9—10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月，中国体育代表团在第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届悉尼奥运会上，获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枚金牌，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枚银牌和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枚铜牌，名列金牌榜和奖牌榜的位置为：（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第一名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第二名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 第三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4076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华文彩云"/>
                <a:ea typeface="华文彩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941360"/>
            <a:ext cx="64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月，邓小平会见当时英国首相时，公开提出了“一国两制”的构想。这位首相的名字是（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梅杰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撒切尔夫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7640" y="5229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0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915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162864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278136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酒泉卫星发射中心起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8028000" y="6381720"/>
            <a:ext cx="289080" cy="216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84360" y="6237360"/>
            <a:ext cx="71280" cy="287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87280"/>
              <a:gd name="textAreaBottom" fmla="*/ 282960 h 287280"/>
            </a:gdLst>
            <a:ahLst/>
            <a:rect l="textAreaLeft" t="textAreaTop" r="textAreaRight" b="textAreaBottom"/>
            <a:pathLst>
              <a:path w="21600" h="86726">
                <a:moveTo>
                  <a:pt x="0" y="0"/>
                </a:moveTo>
                <a:lnTo>
                  <a:pt x="21600" y="0"/>
                </a:lnTo>
                <a:lnTo>
                  <a:pt x="21600" y="86726"/>
                </a:lnTo>
                <a:lnTo>
                  <a:pt x="0" y="86726"/>
                </a:lnTo>
                <a:close/>
              </a:path>
              <a:path fill="lightenLess" w="21600" h="867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726">
                <a:moveTo>
                  <a:pt x="21600" y="0"/>
                </a:moveTo>
                <a:lnTo>
                  <a:pt x="21600" y="86726"/>
                </a:lnTo>
                <a:lnTo>
                  <a:pt x="20200" y="85326"/>
                </a:lnTo>
                <a:lnTo>
                  <a:pt x="20200" y="1400"/>
                </a:lnTo>
                <a:close/>
              </a:path>
              <a:path fill="darkenLess" w="21600" h="86726">
                <a:moveTo>
                  <a:pt x="21600" y="86726"/>
                </a:moveTo>
                <a:lnTo>
                  <a:pt x="0" y="86726"/>
                </a:lnTo>
                <a:lnTo>
                  <a:pt x="1400" y="85326"/>
                </a:lnTo>
                <a:lnTo>
                  <a:pt x="20200" y="85326"/>
                </a:lnTo>
                <a:close/>
              </a:path>
              <a:path fill="lighten" w="21600" h="86726">
                <a:moveTo>
                  <a:pt x="0" y="86726"/>
                </a:moveTo>
                <a:lnTo>
                  <a:pt x="0" y="0"/>
                </a:lnTo>
                <a:lnTo>
                  <a:pt x="1400" y="1400"/>
                </a:lnTo>
                <a:lnTo>
                  <a:pt x="1400" y="85326"/>
                </a:lnTo>
                <a:close/>
              </a:path>
              <a:path fill="darken" w="21600" h="86726">
                <a:moveTo>
                  <a:pt x="3794" y="43363"/>
                </a:moveTo>
                <a:lnTo>
                  <a:pt x="17806" y="36356"/>
                </a:lnTo>
                <a:lnTo>
                  <a:pt x="17806" y="503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分发射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神舟七号于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秒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三名宇航员，他们中的一人将在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下午进行中国第一次出舱活动，取回实验样本，出舱活动进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钟左右，这是一个很大的进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51:13Z</dcterms:modified>
  <cp:revision>34</cp:revision>
  <dc:subject>主题班会课件(分28大类): http://shop62905894.taobao.com</dc:subject>
  <dc:title>主题班会课件(分28大类): http://shop62905894.taobao.com</dc:title>
</cp:coreProperties>
</file>